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F5D4-551E-4C7D-B96F-5A4FF0C1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CE15-363B-4B10-8956-44D356E9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F0C-00A1-4F9F-83B1-4D2B2A2B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183D-1E85-4D4C-8D2A-035B54BA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5C27-03AD-4F6E-8221-F06CF65A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891-0547-444D-87F6-1B2B1A36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1BE9-F2DC-4AD8-8B55-DB794267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4A4-49F6-4FBF-80BB-B99B6320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7157-9656-45A4-A0C3-9C130245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4208-60E8-4386-A599-B2FD4330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755-3FEB-4CE2-BDA0-D6B455FA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ACE-C39E-412E-86D7-5B620986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203E-B465-4039-9947-40BF93B17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2.7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ess, Check, Rev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1817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3962520"/>
            <a:ext cx="8915400" cy="1425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09680" y="4572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popco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4572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s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45720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4952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popco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4952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s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43800" y="4952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$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451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2666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Test your conjecture by calculating the total pr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3876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Multiply the selling price of popcorn by 79 and the selling price of soda by 9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402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382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27432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2743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35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3595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35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4038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059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0592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2687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1460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$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24000" y="647640"/>
            <a:ext cx="6694560" cy="5568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724280" y="5410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$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5715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$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567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4724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1:19:22Z</dcterms:created>
  <dc:creator>Susannah Graham</dc:creator>
  <dc:description/>
  <dc:language>en-US</dc:language>
  <cp:lastModifiedBy>grahams</cp:lastModifiedBy>
  <dcterms:modified xsi:type="dcterms:W3CDTF">2011-10-21T12:57:35Z</dcterms:modified>
  <cp:revision>10</cp:revision>
  <dc:subject/>
  <dc:title>Problem of the Day!!! </dc:title>
</cp:coreProperties>
</file>